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8.jpeg" ContentType="image/jpeg"/>
  <Override PartName="/ppt/media/image23.wmf" ContentType="image/x-wmf"/>
  <Override PartName="/ppt/media/image20.png" ContentType="image/png"/>
  <Override PartName="/ppt/media/image36.jpeg" ContentType="image/jpeg"/>
  <Override PartName="/ppt/media/image21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7.gif" ContentType="image/gif"/>
  <Override PartName="/ppt/media/image37.gif" ContentType="image/gif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2.jpeg" ContentType="image/jpeg"/>
  <Override PartName="/ppt/media/image11.gif" ContentType="image/gif"/>
  <Override PartName="/ppt/media/image2.png" ContentType="image/png"/>
  <Override PartName="/ppt/media/image25.jpeg" ContentType="image/jpeg"/>
  <Override PartName="/ppt/media/image32.png" ContentType="image/png"/>
  <Override PartName="/ppt/media/image3.gif" ContentType="image/gif"/>
  <Override PartName="/ppt/media/image29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4E36-1292-4C09-8F38-957BF268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F46B-B3EE-494E-9311-0585AC19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97C6-34B2-45F2-A7F0-D62DCA82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C87C-C288-4887-BCF4-5B7E48A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A3E4-0034-43B7-97CF-BDD15786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230-9E02-4363-8CA9-00DBA314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F33B-898E-49A8-8860-08CB6F48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5271-4E11-4232-8C19-2C751A3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B327-140E-4D56-9623-5E37E98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3850-165F-4E65-9C53-CB3F3B15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DFD9-DD8D-4210-8232-D8876D0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3459-0592-4524-84CD-2EDB7FA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D18-D2FE-4332-B180-9454D71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7C6F-8680-42AC-BAE6-0DB42AA8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644B-D77B-413B-B425-4BB60DA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4316-1D30-4632-ACEC-C4E818CE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CFAE-C875-44D7-A5C9-CFC9B057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179A-6352-472E-8F18-E0326A5B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66BA-A95E-4BFD-BC21-500458B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A7B5-7DA0-45C3-A5D6-49C03FC3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ACDF-CD97-4351-AB71-1BAAB86E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69E4-6982-4074-B075-06F8005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87A4-3D05-4B2D-B969-1B676EE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B929-69B2-490E-AA42-18CA6E9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C5D2-ED9B-4A8D-87A5-F589EB673E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15E7-C616-4B67-AD39-B594EF43B1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PRINT"/>
              </a:rPr>
              <a:t>Power Sourc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By: Serenity Y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08360" y="1599840"/>
            <a:ext cx="26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Tid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Hyd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Wi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825800" cy="46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31164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39640" y="3941640"/>
            <a:ext cx="3240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Sol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5040360" cy="446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600200"/>
            <a:ext cx="3313080" cy="218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5280" y="4121280"/>
            <a:ext cx="3313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392720" cy="47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6480" y="1268280"/>
            <a:ext cx="44575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Tid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295128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635280" y="1628640"/>
            <a:ext cx="540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8360" y="339840"/>
            <a:ext cx="82072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Hydr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3960720" cy="2189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464000" cy="482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5280" y="3941640"/>
            <a:ext cx="396072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1280" y="213372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These are more eco friendly… but they do cost a lot to install, set up and re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Non-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19640" y="2133360"/>
            <a:ext cx="2520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Nu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S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555480"/>
            <a:ext cx="835164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37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991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213372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The power that is made in all these different types of power plants then makes its way through the power lines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99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19280" y="2205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And to your houses or apartment building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43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92360" y="2852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And makes this happe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Nucle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941640"/>
            <a:ext cx="33116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4969080" cy="46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311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620640"/>
            <a:ext cx="65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PRINT"/>
              </a:rPr>
              <a:t>I think we should all consider becoming more eco friendly it doesn’t have to be big but even in the small things we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24360" y="3789360"/>
            <a:ext cx="33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Co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338292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4825800" cy="446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3311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722160"/>
            <a:ext cx="7619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Oi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537080" cy="446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600200"/>
            <a:ext cx="359892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3598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277920"/>
            <a:ext cx="7559640" cy="60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These are all good sources for energy…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SPRINT"/>
              </a:rPr>
              <a:t>But they tend to leave behind a lot of pollution and unwanted side affects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2:01Z</dcterms:created>
  <dc:creator>HWDSB</dc:creator>
  <dc:description/>
  <dc:language>en-US</dc:language>
  <cp:lastModifiedBy>HWDSB</cp:lastModifiedBy>
  <dcterms:modified xsi:type="dcterms:W3CDTF">2011-01-18T15:01:35Z</dcterms:modified>
  <cp:revision>5</cp:revision>
  <dc:subject/>
  <dc:title>Power Sources</dc:title>
</cp:coreProperties>
</file>